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2C5-8CDF-4040-ADAB-7C1D3285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441-38BA-4350-B5D8-95339C15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E27-A187-410F-A52B-62AEB0BC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D30-5DF5-47BD-853B-123650E2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AD7-1774-4225-82A8-0E3585EB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611-A86C-4CD2-9C5C-89B29F83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16C-9311-49DB-BE54-7FD31F7C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1D85-EBBE-4771-B838-7B5102EE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720-DBC7-4FD6-8714-71523F34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26C3-C4EA-4FE4-81AD-6176C6D7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AF3-DF57-41B9-BA13-EC005556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F80-0AEB-4EC9-863A-61F34676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4C37-706C-401B-835E-8BA31D843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76092"/>
                </a:solidFill>
                <a:latin typeface="Comic Sans MS"/>
              </a:rPr>
              <a:t>Dog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810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B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21932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3048120" y="32004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C:\Documents and Settings\tpeters\Local Settings\Temporary Internet Files\Content.IE5\VCA2I0KT\MCj04239120000[1].wmf"/>
          <p:cNvPicPr/>
          <p:nvPr/>
        </p:nvPicPr>
        <p:blipFill>
          <a:blip r:embed="rId1"/>
          <a:stretch/>
        </p:blipFill>
        <p:spPr>
          <a:xfrm>
            <a:off x="3276720" y="1981080"/>
            <a:ext cx="934920" cy="100836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46" name="Picture 2" descr="C:\Documents and Settings\tpeters\Local Settings\Temporary Internet Files\Content.IE5\KCMCXKY3\MCj04238900000[1].wmf"/>
          <p:cNvPicPr/>
          <p:nvPr/>
        </p:nvPicPr>
        <p:blipFill>
          <a:blip r:embed="rId2"/>
          <a:stretch/>
        </p:blipFill>
        <p:spPr>
          <a:xfrm>
            <a:off x="609480" y="861840"/>
            <a:ext cx="221004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21932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3048120" y="32004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Documents and Settings\tpeters\Local Settings\Temporary Internet Files\Content.IE5\VCA2I0KT\MCj04239120000[1].wmf"/>
          <p:cNvPicPr/>
          <p:nvPr/>
        </p:nvPicPr>
        <p:blipFill>
          <a:blip r:embed="rId1"/>
          <a:stretch/>
        </p:blipFill>
        <p:spPr>
          <a:xfrm>
            <a:off x="3276720" y="1981080"/>
            <a:ext cx="934920" cy="100836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50" name="Picture 2" descr="C:\Documents and Settings\tpeters\Local Settings\Temporary Internet Files\Content.IE5\KCMCXKY3\MCj04238900000[1].wmf"/>
          <p:cNvPicPr/>
          <p:nvPr/>
        </p:nvPicPr>
        <p:blipFill>
          <a:blip r:embed="rId2"/>
          <a:stretch/>
        </p:blipFill>
        <p:spPr>
          <a:xfrm>
            <a:off x="609480" y="861840"/>
            <a:ext cx="221004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21932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048120" y="32004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C:\Documents and Settings\tpeters\Local Settings\Temporary Internet Files\Content.IE5\VCA2I0KT\MCj04239120000[1].wmf"/>
          <p:cNvPicPr/>
          <p:nvPr/>
        </p:nvPicPr>
        <p:blipFill>
          <a:blip r:embed="rId1"/>
          <a:stretch/>
        </p:blipFill>
        <p:spPr>
          <a:xfrm>
            <a:off x="3276720" y="1981080"/>
            <a:ext cx="934920" cy="100836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54" name="Picture 2" descr="C:\Documents and Settings\tpeters\Local Settings\Temporary Internet Files\Content.IE5\KCMCXKY3\MCj04238900000[1].wmf"/>
          <p:cNvPicPr/>
          <p:nvPr/>
        </p:nvPicPr>
        <p:blipFill>
          <a:blip r:embed="rId2"/>
          <a:stretch/>
        </p:blipFill>
        <p:spPr>
          <a:xfrm>
            <a:off x="609480" y="861840"/>
            <a:ext cx="221004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  <p:sp>
        <p:nvSpPr>
          <p:cNvPr id="55" name="Rectangle 2"/>
          <p:cNvSpPr/>
          <p:nvPr/>
        </p:nvSpPr>
        <p:spPr>
          <a:xfrm>
            <a:off x="5410080" y="325296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tpeters\Local Settings\Temporary Internet Files\Content.IE5\KCMCXKY3\MCj04238900000[1].wmf"/>
          <p:cNvPicPr/>
          <p:nvPr/>
        </p:nvPicPr>
        <p:blipFill>
          <a:blip r:embed="rId3"/>
          <a:stretch/>
        </p:blipFill>
        <p:spPr>
          <a:xfrm>
            <a:off x="4800600" y="914400"/>
            <a:ext cx="220968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21932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3048120" y="32004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Documents and Settings\tpeters\Local Settings\Temporary Internet Files\Content.IE5\VCA2I0KT\MCj04239120000[1].wmf"/>
          <p:cNvPicPr/>
          <p:nvPr/>
        </p:nvPicPr>
        <p:blipFill>
          <a:blip r:embed="rId1"/>
          <a:stretch/>
        </p:blipFill>
        <p:spPr>
          <a:xfrm>
            <a:off x="3276720" y="1981080"/>
            <a:ext cx="934920" cy="100836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60" name="Picture 2" descr="C:\Documents and Settings\tpeters\Local Settings\Temporary Internet Files\Content.IE5\KCMCXKY3\MCj04238900000[1].wmf"/>
          <p:cNvPicPr/>
          <p:nvPr/>
        </p:nvPicPr>
        <p:blipFill>
          <a:blip r:embed="rId2"/>
          <a:stretch/>
        </p:blipFill>
        <p:spPr>
          <a:xfrm>
            <a:off x="609480" y="861840"/>
            <a:ext cx="221004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  <p:sp>
        <p:nvSpPr>
          <p:cNvPr id="61" name="Rectangle 2"/>
          <p:cNvSpPr/>
          <p:nvPr/>
        </p:nvSpPr>
        <p:spPr>
          <a:xfrm>
            <a:off x="5410080" y="325296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238880" y="325296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C:\Documents and Settings\tpeters\Local Settings\Temporary Internet Files\Content.IE5\VCA2I0KT\MCj04239120000[1].wmf"/>
          <p:cNvPicPr/>
          <p:nvPr/>
        </p:nvPicPr>
        <p:blipFill>
          <a:blip r:embed="rId3"/>
          <a:stretch/>
        </p:blipFill>
        <p:spPr>
          <a:xfrm>
            <a:off x="7467480" y="2033640"/>
            <a:ext cx="935280" cy="100800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64" name="Picture 2" descr="C:\Documents and Settings\tpeters\Local Settings\Temporary Internet Files\Content.IE5\KCMCXKY3\MCj04238900000[1].wmf"/>
          <p:cNvPicPr/>
          <p:nvPr/>
        </p:nvPicPr>
        <p:blipFill>
          <a:blip r:embed="rId4"/>
          <a:stretch/>
        </p:blipFill>
        <p:spPr>
          <a:xfrm>
            <a:off x="4800600" y="914400"/>
            <a:ext cx="220968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21932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048120" y="32004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C:\Documents and Settings\tpeters\Local Settings\Temporary Internet Files\Content.IE5\VCA2I0KT\MCj04239120000[1].wmf"/>
          <p:cNvPicPr/>
          <p:nvPr/>
        </p:nvPicPr>
        <p:blipFill>
          <a:blip r:embed="rId1"/>
          <a:stretch/>
        </p:blipFill>
        <p:spPr>
          <a:xfrm>
            <a:off x="3276720" y="1981080"/>
            <a:ext cx="934920" cy="100836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68" name="Picture 2" descr="C:\Documents and Settings\tpeters\Local Settings\Temporary Internet Files\Content.IE5\KCMCXKY3\MCj04238900000[1].wmf"/>
          <p:cNvPicPr/>
          <p:nvPr/>
        </p:nvPicPr>
        <p:blipFill>
          <a:blip r:embed="rId2"/>
          <a:stretch/>
        </p:blipFill>
        <p:spPr>
          <a:xfrm>
            <a:off x="609480" y="861840"/>
            <a:ext cx="221004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  <p:sp>
        <p:nvSpPr>
          <p:cNvPr id="69" name="Rectangle 2"/>
          <p:cNvSpPr/>
          <p:nvPr/>
        </p:nvSpPr>
        <p:spPr>
          <a:xfrm>
            <a:off x="5410080" y="325296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238880" y="325296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C:\Documents and Settings\tpeters\Local Settings\Temporary Internet Files\Content.IE5\VCA2I0KT\MCj04239120000[1].wmf"/>
          <p:cNvPicPr/>
          <p:nvPr/>
        </p:nvPicPr>
        <p:blipFill>
          <a:blip r:embed="rId3"/>
          <a:stretch/>
        </p:blipFill>
        <p:spPr>
          <a:xfrm>
            <a:off x="7467480" y="2033640"/>
            <a:ext cx="935280" cy="100800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72" name="Picture 2" descr="C:\Documents and Settings\tpeters\Local Settings\Temporary Internet Files\Content.IE5\KCMCXKY3\MCj04238900000[1].wmf"/>
          <p:cNvPicPr/>
          <p:nvPr/>
        </p:nvPicPr>
        <p:blipFill>
          <a:blip r:embed="rId4"/>
          <a:stretch/>
        </p:blipFill>
        <p:spPr>
          <a:xfrm>
            <a:off x="4800600" y="914400"/>
            <a:ext cx="220968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  <p:sp>
        <p:nvSpPr>
          <p:cNvPr id="73" name="Rectangle 2"/>
          <p:cNvSpPr/>
          <p:nvPr/>
        </p:nvSpPr>
        <p:spPr>
          <a:xfrm>
            <a:off x="1143000" y="614844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971800" y="61484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C:\Documents and Settings\tpeters\Local Settings\Temporary Internet Files\Content.IE5\VCA2I0KT\MCj04239120000[1].wmf"/>
          <p:cNvPicPr/>
          <p:nvPr/>
        </p:nvPicPr>
        <p:blipFill>
          <a:blip r:embed="rId5"/>
          <a:stretch/>
        </p:blipFill>
        <p:spPr>
          <a:xfrm>
            <a:off x="3200400" y="4929120"/>
            <a:ext cx="934920" cy="100800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76" name="Picture 2" descr="C:\Documents and Settings\tpeters\Local Settings\Temporary Internet Files\Content.IE5\KCMCXKY3\MCj04238900000[1].wmf"/>
          <p:cNvPicPr/>
          <p:nvPr/>
        </p:nvPicPr>
        <p:blipFill>
          <a:blip r:embed="rId6"/>
          <a:stretch/>
        </p:blipFill>
        <p:spPr>
          <a:xfrm>
            <a:off x="533520" y="3809880"/>
            <a:ext cx="220968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219320" y="3200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3048120" y="32004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C:\Documents and Settings\tpeters\Local Settings\Temporary Internet Files\Content.IE5\VCA2I0KT\MCj04239120000[1].wmf"/>
          <p:cNvPicPr/>
          <p:nvPr/>
        </p:nvPicPr>
        <p:blipFill>
          <a:blip r:embed="rId1"/>
          <a:stretch/>
        </p:blipFill>
        <p:spPr>
          <a:xfrm>
            <a:off x="3276720" y="1981080"/>
            <a:ext cx="934920" cy="100836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80" name="Picture 2" descr="C:\Documents and Settings\tpeters\Local Settings\Temporary Internet Files\Content.IE5\KCMCXKY3\MCj04238900000[1].wmf"/>
          <p:cNvPicPr/>
          <p:nvPr/>
        </p:nvPicPr>
        <p:blipFill>
          <a:blip r:embed="rId2"/>
          <a:stretch/>
        </p:blipFill>
        <p:spPr>
          <a:xfrm>
            <a:off x="609480" y="861840"/>
            <a:ext cx="221004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  <p:sp>
        <p:nvSpPr>
          <p:cNvPr id="81" name="Rectangle 2"/>
          <p:cNvSpPr/>
          <p:nvPr/>
        </p:nvSpPr>
        <p:spPr>
          <a:xfrm>
            <a:off x="5410080" y="325296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7238880" y="325296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C:\Documents and Settings\tpeters\Local Settings\Temporary Internet Files\Content.IE5\VCA2I0KT\MCj04239120000[1].wmf"/>
          <p:cNvPicPr/>
          <p:nvPr/>
        </p:nvPicPr>
        <p:blipFill>
          <a:blip r:embed="rId3"/>
          <a:stretch/>
        </p:blipFill>
        <p:spPr>
          <a:xfrm>
            <a:off x="7467480" y="2033640"/>
            <a:ext cx="935280" cy="100800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84" name="Picture 2" descr="C:\Documents and Settings\tpeters\Local Settings\Temporary Internet Files\Content.IE5\KCMCXKY3\MCj04238900000[1].wmf"/>
          <p:cNvPicPr/>
          <p:nvPr/>
        </p:nvPicPr>
        <p:blipFill>
          <a:blip r:embed="rId4"/>
          <a:stretch/>
        </p:blipFill>
        <p:spPr>
          <a:xfrm>
            <a:off x="4800600" y="914400"/>
            <a:ext cx="220968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  <p:sp>
        <p:nvSpPr>
          <p:cNvPr id="85" name="Rectangle 2"/>
          <p:cNvSpPr/>
          <p:nvPr/>
        </p:nvSpPr>
        <p:spPr>
          <a:xfrm>
            <a:off x="1143000" y="614844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2971800" y="61484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Documents and Settings\tpeters\Local Settings\Temporary Internet Files\Content.IE5\VCA2I0KT\MCj04239120000[1].wmf"/>
          <p:cNvPicPr/>
          <p:nvPr/>
        </p:nvPicPr>
        <p:blipFill>
          <a:blip r:embed="rId5"/>
          <a:stretch/>
        </p:blipFill>
        <p:spPr>
          <a:xfrm>
            <a:off x="3200400" y="4929120"/>
            <a:ext cx="934920" cy="100800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88" name="Picture 2" descr="C:\Documents and Settings\tpeters\Local Settings\Temporary Internet Files\Content.IE5\KCMCXKY3\MCj04238900000[1].wmf"/>
          <p:cNvPicPr/>
          <p:nvPr/>
        </p:nvPicPr>
        <p:blipFill>
          <a:blip r:embed="rId6"/>
          <a:stretch/>
        </p:blipFill>
        <p:spPr>
          <a:xfrm>
            <a:off x="533520" y="3809880"/>
            <a:ext cx="2209680" cy="21099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  <p:sp>
        <p:nvSpPr>
          <p:cNvPr id="89" name="Rectangle 2"/>
          <p:cNvSpPr/>
          <p:nvPr/>
        </p:nvSpPr>
        <p:spPr>
          <a:xfrm>
            <a:off x="5334120" y="6199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Big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7162920" y="61992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Comic Sans MS"/>
              </a:rPr>
              <a:t>Small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:\Documents and Settings\tpeters\Local Settings\Temporary Internet Files\Content.IE5\VCA2I0KT\MCj04239120000[1].wmf"/>
          <p:cNvPicPr/>
          <p:nvPr/>
        </p:nvPicPr>
        <p:blipFill>
          <a:blip r:embed="rId7"/>
          <a:stretch/>
        </p:blipFill>
        <p:spPr>
          <a:xfrm>
            <a:off x="7391520" y="4979880"/>
            <a:ext cx="934920" cy="100980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pic>
        <p:nvPicPr>
          <p:cNvPr id="92" name="Picture 2" descr="C:\Documents and Settings\tpeters\Local Settings\Temporary Internet Files\Content.IE5\KCMCXKY3\MCj04238900000[1].wmf"/>
          <p:cNvPicPr/>
          <p:nvPr/>
        </p:nvPicPr>
        <p:blipFill>
          <a:blip r:embed="rId8"/>
          <a:stretch/>
        </p:blipFill>
        <p:spPr>
          <a:xfrm>
            <a:off x="4724280" y="3862440"/>
            <a:ext cx="2210040" cy="2108160"/>
          </a:xfrm>
          <a:prstGeom prst="rect">
            <a:avLst/>
          </a:prstGeom>
          <a:ln w="82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29:38Z</dcterms:created>
  <dc:creator>Tricia Peters</dc:creator>
  <dc:description/>
  <dc:language>en-US</dc:language>
  <cp:lastModifiedBy>Tricia Peters</cp:lastModifiedBy>
  <dcterms:modified xsi:type="dcterms:W3CDTF">2008-11-30T01:40:19Z</dcterms:modified>
  <cp:revision>2</cp:revision>
  <dc:subject/>
  <dc:title>Dogs</dc:title>
</cp:coreProperties>
</file>